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7FA1-1FF4-4A30-8660-9D366DB1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 Fire –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397-C234-4EEB-B329-177FC4D4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244-6460-48EE-82DB-78F55C7B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AF7-5644-4A37-944E-72CB3D02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FF6-F24B-4D0C-84F5-A91FC7F8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468-9832-4D22-B4F0-0B2D359E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5AD-407A-4FC4-8160-67AC701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4B2C-430C-4585-A780-83BE428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24BB-1A38-486B-B4DE-00C24901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608-ED91-4E28-A24B-A9D8683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3E9-4689-42D3-A006-16D0018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35D-8981-4884-BF61-DBBDEF60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8C9-38A4-4630-A533-F766A78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E871-EC0A-405A-80C4-00DB0EC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DDDA-8499-4393-99B7-21044B7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F6BB-6AD1-46B0-BD4D-A19F0BA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198-A71D-4CC0-B21D-240388B1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FF2-811D-4FFE-B57B-6A6820F5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29A-BB03-4A2B-968A-A1D4F2A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D79-4E7D-4708-AC71-833D676C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DFD-4ACB-40BF-A4BD-086DDEA1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A2C-9088-4267-A7B0-77CCF59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EF2-20DF-4052-BB49-85A4567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FBC-D7FF-489A-BADA-C729AFE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155-4367-4C60-B9A3-481B603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529-8F40-407E-BCDF-718CEBE0F5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4A15-8AA6-4DBE-9B7F-E359AD24DE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tting Up Camp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 </a:t>
            </a: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ssion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 F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Our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ad a matching question and discuss how it is associated with the Big Ide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ng the question under the Big Idea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lain to the group your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yph Group Problem Solv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a typical May 24th weekend Joyce noticed both her arms were covered in black fly bites.  Cathy said “I think I have twice as many as you do.”  How many black fly bites might Cathy or Joyce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Big Ideas for Number do you see represen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marker to put the number on the bottom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stablish a supportive math talk professional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nect proportional reasoning –  to the Ontario Mathematics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gnize the developmental nature of multiplicative thinking (counting to skip counting to additive thinking in primary grades) as it applies to junio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Create a name tag (glyph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n index card and a sheet of paper. On the back of your index card is one of the following words: rate, ratio, percent, fraction, multiplication, or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 steps on your index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your card in landscape and fold it 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8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efore writing the name on the nametag do the following two things: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position in the famil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703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0308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Young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– write your name in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199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9bd"/>
                </a:solidFill>
                <a:latin typeface="Arial"/>
              </a:rPr>
              <a:t>Only Chi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in your first five years of teach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–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write in cur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-  write in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447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Draw the following symbol on your name tag to indicate the month in which you were born:</a:t>
            </a:r>
            <a:br>
              <a:rPr sz="36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8036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– snow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– mapl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– he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–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– k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–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– umbrel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– pump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– f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– po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– school with a </a:t>
            </a: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– holly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7559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hink about these before putting the border on your name tag:</a:t>
            </a: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hich day of the month were you born? – Put that many dots in the border of your name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blings do you have? – Color a line around the edge of your border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0 – gr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- 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2 – pur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 – 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70308"/>
                </a:solidFill>
                <a:latin typeface="Arial"/>
              </a:rPr>
              <a:t>4+ -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plete your glyph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is like a ________________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your choice of animal that completes th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blish your glyph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e your glyph on your sheet of paper and post it! Retain your index card for future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assume a positive 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burning issues to the camp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1:05:11Z</dcterms:modified>
  <cp:revision>152</cp:revision>
  <dc:subject/>
  <dc:title>Slide 1</dc:title>
</cp:coreProperties>
</file>